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dt" idx="1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1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 type="sldNum" idx="1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5419-88B3-414F-A1CD-F275590C5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8C52-BB18-4C1B-A97A-51AE73F76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8199-7E6E-4489-BFA2-C57C628E5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51A0-8F2A-4430-B9F9-7176E7E04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6983-0225-468F-ADE4-553D81B4A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35F7-D317-4D25-9AD6-2414EAE3A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8AF2-D5AE-4245-B17C-F5BE3DEFC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C0AE-B12A-4C66-930A-F1F6F517B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E5B9-EC6D-4974-B481-3736CFC06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4B00-1C78-4C4B-B65D-487694348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FB19-31AC-4B6F-8A1C-561549F0B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6050-47A2-457B-8D7D-A6085910B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088F-9886-4FEE-95AC-E58F33E1F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E24E-26A9-4D20-9151-A30979136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1A77-51BD-415A-B2C6-0A4673E34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92F5-732C-4FF1-B315-45E205243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6207-78DB-4799-B402-6DCBE0C43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5DF0-27C4-48AA-BE5E-F9321E3CE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8EFC-C8E8-4F37-9802-4959B856C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C3E4-EFA2-483D-A845-BF997D787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9092-DA1D-456F-BD39-F0D6ADE4A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3E68-F115-4351-9D5D-9095454E3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445C-C243-4F83-AC89-A0575321C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BBFA-4CD7-40E4-BB81-7FD0EE4FF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FF74-8BD1-46F7-A9D3-E0E15DBE0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704215-1C6F-46FD-BFB6-60265838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5DB919-F56B-4CAC-9E92-FCBBDB9F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06581C-21F5-44EA-8E95-04C681D5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85DCCF-7D61-4F7D-9335-DF3EC751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EDC012-0AE4-48CF-911D-0562710A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EF86DF-AF95-4534-98E1-B2C547DC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D0B11E-3335-47B4-BBE9-9F59EF25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55B3BF-A156-4429-A54E-CA267463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39561B-08C7-4CCA-9C75-C5D698E0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3E18-44A4-4873-86D0-DFCF2FA1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0FD0-582A-40A9-9B3E-CF5BCC8D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5954-6DAA-4900-AB02-71E79FCA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5B70-488A-4CAB-A155-D8AF9A38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DF4C-80C0-4172-8F21-3C212032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34EF-E8E4-4F40-94DD-7906D2D9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B9E7-C03D-4BFC-B8F8-11ABBC49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60F-FE60-4504-9B5B-87C6E4EC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C26-552B-4A99-BF2E-BB3983A4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BC79-A15B-4E2E-9795-FDD3F480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712-E0EF-48FC-B6C4-6F1A270D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8285-28AB-4904-B070-EA01FAD1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CF57A-6C6B-4E3F-9B32-6B38A21D365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26F69-D68E-433F-82F9-DE03A75B9A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080E2-9C94-488D-A901-F013EA340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2D237-A54F-47B3-B9F6-8A845C40539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0814A-E928-4CBF-8DA1-846D22D1ABD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3EDE9-F0B7-4483-B013-9E961AF40BB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C33B7-9D57-4303-B6A0-396E050D38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FCC6A-493D-4C96-AAB1-9C96741CDC1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EAA4B-E438-4C58-B907-A6352C80FE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F44DE-CAC0-4B36-9545-EF4F3939E23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8500B-AC5D-49EF-A315-E3F399DCD76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2E645-63C9-494C-B384-0D9C40A9CFE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6C924-B46D-494B-A94C-A3712BCCC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76432-6C87-4F57-9200-771A2994A14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51EC7-2EBE-41FF-9402-1D4A896CD6E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E5C25-AA18-4B39-8C5A-BB100191F19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F00A5-1132-4907-8F4E-6D9D3217FDC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1B103-6A6A-49C9-98C3-9159EE1AABA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131C9-D4A0-41A3-9752-54C928C015E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4470E-92B7-4790-BB4D-D148A1EDB64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BAF4D-FE1B-4A1C-89DD-132D6804561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9597D-CEE4-4AEB-8088-00C5BD192FF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C7A27-68F1-4D11-8DA0-1672AA7BD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83C49-4D36-462C-9370-B8599FB0F20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E96C-75FB-45B5-A746-36BE1611E7C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BFF0-CBBE-424B-B694-C2FB974B4E9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7B96-698F-4D37-8CEF-40381BEAAF8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C095-C8C7-49D3-B878-503720507D6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0E57-5A54-4383-AFBE-1D914BBB758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AC5E-3955-4E42-A03D-8A685BEE0A0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F4F2-57E7-4CD2-9E4F-0AA7E0CD717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A191-22A4-45B5-9106-85AADD5AD93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E542-3F3C-4BEA-AE59-BF18ECD9D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8C55-3244-4162-8143-4ABC143A6A3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9752-F1CB-4DE3-845A-E811254A94F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3161-6B03-4C92-8761-02C75D09292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B04E9-DD8F-4E26-9B41-2A881E121C0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20805-9B77-4062-9707-F4C1AA5AB59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C3594-1076-402C-943B-6852144F889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88ECE-B5A6-459A-A077-2F0CC6ED783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666B2-EEE5-4716-B28D-A089F22FDD8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DEF03-AD5D-4288-BDA8-E83B85CF438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16115-2744-4704-B69C-DFB584D89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A685D-68D8-4401-AC43-7408807F221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D601A-F412-4FE4-B9D5-49ABE3217D0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DDACE-1C34-4A70-9F00-A5012040FF3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FF8431-94A9-4CB0-8A5C-EB97617EB84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6BBCE-575A-4C8C-9F33-F4F47E940F7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64FC5A-CFA5-4BAA-8555-8977E292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80ACF4-7CED-4D4B-87C1-CCF94BB3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F91A64-9CA3-4AD3-B507-6EE8D2AA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BB5CCF-A70F-434A-ADFA-24BC29D5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F83811-D95F-4553-8CF5-82266A0F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2D34F3-CD00-47EC-8A54-DCB260A9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DF5E41-F4B2-43ED-84A6-120CCAAD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40AF1A-3A2C-4862-B661-03267976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039C53-75EF-4272-ABD1-060E4BB7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120606-2525-43DA-986A-F75119C1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D548B5-6FBA-458C-85F9-C7813887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3D919F-7EEE-43C0-9FF9-B637965F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C3ADAF-F9E6-42E8-9AA5-FE236944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73F575-FEC8-4031-98F9-9B268E68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DE5D21-DE27-4622-AFF8-F1AD7910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8683606C-989F-4593-9066-6CD0290A807E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8" descr="CompanionWebSite Back"/>
          <p:cNvPicPr/>
          <p:nvPr/>
        </p:nvPicPr>
        <p:blipFill>
          <a:blip r:embed="rId3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3.</a:t>
            </a:r>
            <a:fld id="{0DF28A68-453F-4854-8225-DE119963AB62}" type="slidenum"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170E-BD07-45AD-B74A-C6BC11F5DE4A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CompanionWebSite Back"/>
          <p:cNvPicPr/>
          <p:nvPr/>
        </p:nvPicPr>
        <p:blipFill>
          <a:blip r:embed="rId3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3.</a:t>
            </a:r>
            <a:fld id="{F4E50912-F877-48C2-9C6B-8026D044B675}" type="slidenum"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4EF8047D-6276-4BBC-8A17-318CAE93E74B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D964A831-6472-4245-8C70-F1E2A1AB04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13EEBA4B-A4D3-475C-B057-C41DBD21BC31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8B38B6EE-D180-477E-8D94-AAE0A7C497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C49BE2E5-7B75-4A4A-9D5F-AC420665DAC3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C4AEEC93-1946-4C54-A172-78A09DDD58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907F39B2-8286-47ED-A3AD-04DEC45A5FA9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UC 6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fld id="{B32C9E02-227D-4AEA-B950-5BB69AB6CA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8" descr="CompanionWebSite Back"/>
          <p:cNvPicPr/>
          <p:nvPr/>
        </p:nvPicPr>
        <p:blipFill>
          <a:blip r:embed="rId3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3.</a:t>
            </a:r>
            <a:fld id="{799070C0-F982-4B3E-B393-D3E3DB2E496C}" type="slidenum"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9" name="Picture 1026" descr="CompanionWebSite Back"/>
          <p:cNvPicPr/>
          <p:nvPr/>
        </p:nvPicPr>
        <p:blipFill>
          <a:blip r:embed="rId4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9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0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1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377E-91A2-4524-A3B8-7CA54129D69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8" descr="CompanionWebSite Back"/>
          <p:cNvPicPr/>
          <p:nvPr/>
        </p:nvPicPr>
        <p:blipFill>
          <a:blip r:embed="rId3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69676d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3.</a:t>
            </a:r>
            <a:fld id="{8C4C4806-1C67-4B3C-98C0-126A63196E0E}" type="slidenum">
              <a:rPr b="0" lang="en-US" sz="900" spc="-1" strike="noStrike">
                <a:solidFill>
                  <a:srgbClr val="69676d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2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13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14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F375-C220-40FF-BF27-B342BEB2060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evalutech.sreb.org/" TargetMode="External"/><Relationship Id="rId3" Type="http://schemas.openxmlformats.org/officeDocument/2006/relationships/hyperlink" Target="http://www.clrn.org/home" TargetMode="External"/><Relationship Id="rId4" Type="http://schemas.openxmlformats.org/officeDocument/2006/relationships/hyperlink" Target="http://www.superkids.com/" TargetMode="External"/><Relationship Id="rId5" Type="http://schemas.openxmlformats.org/officeDocument/2006/relationships/hyperlink" Target="http://www.educationworld.com/" TargetMode="Externa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7" descr=""/>
          <p:cNvPicPr/>
          <p:nvPr/>
        </p:nvPicPr>
        <p:blipFill>
          <a:blip r:embed="rId1"/>
          <a:stretch/>
        </p:blipFill>
        <p:spPr>
          <a:xfrm>
            <a:off x="219240" y="396720"/>
            <a:ext cx="8937360" cy="28101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eaching with Instructional Softwar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228600" y="472428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ENEFIT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IMITATIONS AND PROBLE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mmediate feedbac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otiv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aving teacher tim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erceived misus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riticism by constructivist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8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TEGRATION STRATE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UIDELINES FOR U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upplement or replace worksheets and homework exercis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epare for tes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et time limi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ssign individual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Use learning st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4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YP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RITERIA FOR WELL-DESIGNED PROGRA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inear tutori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ranching tutori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xtensive interactiv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horough user contr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ppropriate pedagog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dequate answer-judging and feedbac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ppropriate graphic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dequate record keep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0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IMITATIONS AND PROBLE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mmediate feedbac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otiv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ime saving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elf-contained &amp; self-paced unit of instruc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riticism by constructivis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ack of good produc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eflect only one instructional approac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6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TEGRATION STRATE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UIDELINES FOR U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elf-paced review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lternative learning strate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struction when teachers are unavailab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ssign individual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Use learning stations or individual checkou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Rectangle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YP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RITERIA FOR WELL-DESIGNED PROGRA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hysic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terativ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cedur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ituation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ystem fidelity and accurac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ood accompanying documentation to explain system characteristics and us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8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IMITATIONS AND PROBLE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mpress tim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low down process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et students involved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ake experimentation saf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ake impossible possibl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ave money and resourc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epetition with variatio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Observation of complex process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ccuracy of model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isuse of simulatio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4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153468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TEGRATION STRATE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eplacement or supplement to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ab experiment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ole-playing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field trip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troducing or clarifying a new topic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Fostering exploration &amp; process learn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ncouraging cooperation and group wor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9" name="Footer Placeholder 5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153468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UIDELINES FOR U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an be equally effective with whole class, small groups, or individua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articularly good to instigate discussion and collaborative wor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Usually considered more appropriate for pairs and small group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4" name="Footer Placeholder 5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HARACTERISTIC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RITERIA FOR WELL-DESIGNED PROGRA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ul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lements of competition and challeng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musing or entertaining forma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645080" y="2174760"/>
            <a:ext cx="41940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ppealing formats and activi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structional valu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easonable physical dexterity requireme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ocial, societal, and cultural consider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inimal violence/aggress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0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281160" y="146160"/>
            <a:ext cx="8813520" cy="16588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Page 74"/>
          <p:cNvPicPr/>
          <p:nvPr/>
        </p:nvPicPr>
        <p:blipFill>
          <a:blip r:embed="rId2"/>
          <a:srcRect l="0" t="-14725" r="0" b="-14725"/>
          <a:stretch/>
        </p:blipFill>
        <p:spPr>
          <a:xfrm>
            <a:off x="457200" y="18288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hases 1-2: TPACK &amp; relative advantag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hase 3: Objectives and Assessme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hase 4: Integration Strate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hase 5: Instructional Environ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hase 6: Evaluate and Revi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7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IMITATIONS AND PROBLE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High interes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eten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ppeals to students’ desire to complete and pla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earning versus having fu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nfusion of game rules and real-life rul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efficient learn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6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Rectangle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TEGRATION STRATE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UIDELINES FOR U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 place of worksheets and exercis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o teach cooperative group working skil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s a rewar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Use appropriate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volve all stude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mphasize the content-area skil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2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YP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RITERIA FOR WELL-DESIGNED PROGRA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ntent-area skil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ntent-free skil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hallenging and interesting forma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lear links to developing specific problem-solving skills or abili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8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IMITATIONS AND PROBLE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hallenging activities increase interest and motiv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events inert knowledge by illustration situations in which skills app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Names versus skil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oftware claims versus effectivene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ossible negative effects of directed instruc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ransfer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4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TEGRATION STRATE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UIDELINES FOR U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each component skills in problem- solving strate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vide support in solving proble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ncourage group problem solv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irected teach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learly define skills and the teaching strateg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nstructivist approac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ncourage explora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vide structur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Vary amount of direction and assistanc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mote reflec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tress process over correct answer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0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Rectangle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HARACTERISTIC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RITERIA FOR WELL-DESIGNED I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Networked or online system of instruc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vide complete curricula on a topic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onitor and provide reports on student progre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ummarize data by student, class, scho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ood curriculum coverag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ood pedagogical strate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everal different report forma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asily read and interpreted repor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6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Rectangle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IMITATIONS AND PROBLE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vide supplemental educational services required by NCLB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enefits of drill, tutorials, simulations, instructional games, and problem solving—depending on selectio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asier to access via network or onlin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ersonalized instructio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ummary progress data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s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esearch on impac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ncerns about the role of I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Rectangle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UIDELINES FOR U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lear proble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losed or open syste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atch scope and sequen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atch to target popul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dequacy of reporting and management syste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st of hardware and software resourc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ject educational benefi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Obtain ILS updates from vendo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valuate ILS for match with expect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alculate personnel and fiscal impac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457200" y="2666880"/>
            <a:ext cx="4724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Rectangle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tegration Strate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irected applic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emediation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Mainstream delivery system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nstructivist applic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esource-rich environment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457200" y="2666880"/>
            <a:ext cx="4724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REB EvaluTech </a:t>
            </a:r>
            <a:r>
              <a:rPr b="0" lang="en-US" sz="2000" spc="-1" strike="noStrike" u="sng">
                <a:solidFill>
                  <a:srgbClr val="410082"/>
                </a:solidFill>
                <a:uFillTx/>
                <a:latin typeface="Book Antiqua"/>
                <a:ea typeface="ＭＳ Ｐゴシック"/>
                <a:hlinkClick r:id="rId2"/>
              </a:rPr>
              <a:t>www.evalutech.sreb.org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alifornia Learning Resource Network  </a:t>
            </a:r>
            <a:r>
              <a:rPr b="0" lang="en-US" sz="2000" spc="-1" strike="noStrike" u="sng">
                <a:solidFill>
                  <a:srgbClr val="410082"/>
                </a:solidFill>
                <a:uFillTx/>
                <a:latin typeface="Book Antiqua"/>
                <a:ea typeface="ＭＳ Ｐゴシック"/>
                <a:hlinkClick r:id="rId3"/>
              </a:rPr>
              <a:t>www.clrn.org/hom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uperKids </a:t>
            </a:r>
            <a:r>
              <a:rPr b="0" lang="en-US" sz="2000" spc="-1" strike="noStrike" u="sng">
                <a:solidFill>
                  <a:srgbClr val="410082"/>
                </a:solidFill>
                <a:uFillTx/>
                <a:latin typeface="Book Antiqua"/>
                <a:ea typeface="ＭＳ Ｐゴシック"/>
                <a:hlinkClick r:id="rId4"/>
              </a:rPr>
              <a:t>www.superkids.com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ducation World </a:t>
            </a:r>
            <a:r>
              <a:rPr b="0" lang="en-US" sz="2000" spc="-1" strike="noStrike" u="sng">
                <a:solidFill>
                  <a:srgbClr val="410082"/>
                </a:solidFill>
                <a:uFillTx/>
                <a:latin typeface="Book Antiqua"/>
                <a:ea typeface="ＭＳ Ｐゴシック"/>
                <a:hlinkClick r:id="rId5"/>
              </a:rPr>
              <a:t>www.educationworld.com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grams designed specifically to deliver or support one or more kinds of learning activit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0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6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577360" cy="11588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rill-and-Practice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kill pract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utorial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formation delivery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imulation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emonstr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xplor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structional Gam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kill pract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xplor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blem Solving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kill pract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xplor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4" name="Footer Placeholder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405640" cy="11588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oday’s software can be difficult to classif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everal different activit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Overlap of functions in one packa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xample: Language learning software might incorporate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rill activities (directed strategy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blem solving &amp; gaming (constructivist strategy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7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669160" cy="11588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First instructional software reflected behavioral and cognitive learning theor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ome functions (e.g., drill &amp; practice, tutorial) remain focused on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irected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trateg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ater software designed to support a constructivist approac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ome functions (e.g., simulation, games) can be used in either directed or constructivist way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0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ducational Programming Languag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structional softwa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ool softwar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Used to introduce young children to problem solving through programm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3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Online access and compon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Web 2.0 technolog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ich user experienc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enewed emphasis on directed strategies and networked syste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Integrated learning systems (ILS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6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YP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RITERIA FOR WELL-DESIGNED PROGRA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Flash card activ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ranching dril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xtensive feedback activi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64796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ntrol over presentation rat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nswer judg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ppropriate feedback for correct &amp; incorrect answ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2" name="Footer Placeholder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Comic Sans MS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6:21:22Z</dcterms:created>
  <dc:creator>Terence W. Cavanaugh</dc:creator>
  <dc:description/>
  <dc:language>en-US</dc:language>
  <cp:lastModifiedBy>cregan</cp:lastModifiedBy>
  <dcterms:modified xsi:type="dcterms:W3CDTF">2010-03-31T15:19:28Z</dcterms:modified>
  <cp:revision>120</cp:revision>
  <dc:subject>Integrating Instructional Software into Teaching and Learning</dc:subject>
  <dc:title>Chapter 3</dc:title>
</cp:coreProperties>
</file>